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76D-E071-44F3-9283-77E05DD9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F3F-BC84-47A6-9338-D8DFCC05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E73-F50C-4AAE-9C23-233E08EC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67D-BC74-4C8D-BF4E-8F9CEB1B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2333-5B1B-4309-BE75-77E244E2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CDD4-C40A-4FF3-9EE6-2748420F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14F6-27CB-4ABC-A82C-77B8D2A1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07CC-F5E3-4ED2-B11D-531F65C7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8F2E-03C2-4BB3-A908-BDC53D1F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075D-4FF2-4476-88E7-767C725E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5751-F679-47C4-87A5-E06C8CCC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7B4-1B16-4D52-A3C1-6C5475BB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C2CA-69F0-4F36-B012-BBB2D35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194E-AA25-4493-AF1F-5CE4BC14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7C68-9F4C-42AB-B9A1-E12BADDB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4BF4-964B-42B5-B347-674B9CFC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051B-0E97-47DE-8F89-6E94C9C0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50D6F-A7CB-4365-BB41-43C3FCA8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19A1B-47F3-40CD-951F-F18653B9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36981-F528-4DBE-AD0E-6EABF3FF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53DFE-F447-433F-B161-F08CC1F5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DC201-3435-42D5-A536-890A58DB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DB6-1783-4953-8700-A77F200E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99D5D-9EDB-4E18-A743-536D7237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CAE03-93C0-42DB-96EA-E0E7D94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C406C-7C9D-4DF7-9734-B1530D9B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1E33D-F47D-464B-AA92-F8E4DFF9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ED66E-185D-46F4-AA49-C963F148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D6F95-FBE0-49EF-A44C-EA78CEB0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4F188-8B76-4BD9-89B8-841F28DE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70C58-5F5D-46BB-B342-C2F9D6EA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49A3-BC83-4FD9-9C0B-467422E5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117F9-8F40-4C6A-B79C-4059DE77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E28-4A96-4537-A927-3DCEA93F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73755-0730-46A9-AABD-27262D78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D2E3-6170-4DA1-A049-7EE3FD5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F7C1-730C-4419-9B42-1CCCBCC3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569B8-99B4-4746-BA35-BFB97078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B4316-EE63-4067-B170-3BCDB51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67C0-5FAE-45E5-A242-5DDAAA87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A0887-4BC2-4086-8437-E34F18CC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990A-C8E7-4695-B084-BB13BB42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D0F1-9317-4696-9994-CAF4D5C9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C23DC-0A5E-4356-85B9-7D4E7A5C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543-6940-4386-A2B2-FE513B9E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4A1862-542B-425E-8C3C-B8A337F9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822FD-2797-4C62-9B1D-C352D96B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CB718-3B5F-480A-B7E8-131DD523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EA97D-21E6-49A4-B4B9-3D51CEFD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6C530-990A-45E2-AC62-C151DB91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64111-E044-467A-A043-51777BFD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78735-509E-4F34-BBD1-5CB45E3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62975-B07D-4AA9-8C57-56D9EE5A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73102-18CA-41F2-8A0C-067FD4D4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253D4-7E2C-4047-A71E-D8947546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723-896A-4C76-AC71-67657C89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418EE-E443-486C-8F89-AF95B7C5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B1504-51D4-4B19-BFB1-10CDA84B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D01EE-044C-442D-BC5C-2169D9CD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7D561-5AB1-4014-8FCF-8AC879AD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4A53B-C20C-4AB2-8C47-92472E29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86D1F-6C67-40E6-82BD-42D59BCA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D470E-BDA6-4FC8-93D1-E719323F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F96FB-5774-49F4-81EF-1CC72260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469B1-C935-4C64-9E9C-11AF72E2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50A58-0A4B-40FD-919C-B1EFDCF7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0B8-D86F-4DE5-BBFA-2CEDD586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C96D6-FAB7-4D39-B453-F4CF7963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C42B6-C718-4997-B1CF-C664D8DF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06DB6-BDCC-4596-B421-60A4CF1B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6717E-C1E0-46A8-9878-F85F2821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49A32-BD5E-4F86-B936-B1518509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ED43E-6040-4A34-825C-9A17280B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A3FDD-4925-450B-BD41-620F6BDC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F9C5C-21DE-4D29-89A0-B3DD24E8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C580C-EACD-4DC4-9897-B5E251CD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8FF11-365F-484E-A55E-37013F7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070-0451-4834-B338-D346B54F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896A4-B639-45C3-9D75-5CC611A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CC1DB-21D5-4719-AD56-F69EEF9B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B54EE-ECDB-4892-BA61-484A0333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30373-8AE0-463E-B469-480F969D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59FFB-C642-484A-873F-4D88D93D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B1A-D9A2-40C1-866F-85B00D0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C6A5-6EE3-4DC9-8A0E-63C3B0C3A5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8082-6C59-4A31-B371-CB17D61764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D458-36AC-4108-ACF2-C2E9907565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6BCD-17AF-4B0A-ABFB-3A269F2632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5DB2-127D-4BAA-9EA5-EE9B8DEDB0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D947-5F9C-44A2-879E-21F4914332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8C73-DCE8-4B96-A6E3-6F00E5815C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hyperlink" Target="file:///D:\SACH Y HOC\UpToDate\contents\mobipreview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PATIENT PREPARATION BEFORE CONTRAST ENEMA IN HIRSCHSPRUNG 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43440" y="6273360"/>
            <a:ext cx="1600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  <a:ea typeface="Calibri"/>
              </a:rPr>
              <a:t>21-01-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FALSE NEGATIVE RESULT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Transition zone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infant (&lt;1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se the colon in 24-48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catheter has been placed above the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Rectal sigmoid index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rectal examination 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194680" cy="19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3581280" y="533520"/>
            <a:ext cx="4276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ONGENITAL AGANGLIONIC MEGACOLON (HIRSCHSPRUNG DISEASE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is less sensitive than rectal suction biopsy and anorectal manometry for the diagnosis of HD (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tab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[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"/>
              </a:rPr>
              <a:t>29,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 digital rectal examination within a few days of the contrast enema may dilate the rectum and cause a false negative result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3" descr="UpToDate-20-146x180.jpg"/>
          <p:cNvPicPr/>
          <p:nvPr/>
        </p:nvPicPr>
        <p:blipFill>
          <a:blip r:embed="rId3"/>
          <a:stretch/>
        </p:blipFill>
        <p:spPr>
          <a:xfrm>
            <a:off x="380880" y="64764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CONSTIPATION IN CHILDREN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ETIOLOGY AND DIAGNOSIS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ants with significant constipation from the neonatal period, especially those with delayed passage of meconium — Perform a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barium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 enem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"unprepped", ie, without measures to remove stool from the rect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investigate the possibility of Hirschsprung disease 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UpToDate-20-146x180.jpg"/>
          <p:cNvPicPr/>
          <p:nvPr/>
        </p:nvPicPr>
        <p:blipFill>
          <a:blip r:embed="rId2"/>
          <a:stretch/>
        </p:blipFill>
        <p:spPr>
          <a:xfrm>
            <a:off x="380880" y="571680"/>
            <a:ext cx="139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colon preparation of any typ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etary restri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gital rectal examination with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CLU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tient preparation process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 enterocolitis or recent rectal biopsy: treat well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out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signs of clinical fecal stagnation: do unprepared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signs of clinical fecal stagnation: wash out or use laxatives to cleanse bowel, then stop at least 24h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REFERENC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ro Yoshida, Jr, MD. Hirschsprung Disease Imaging. Medscap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Kristin Fiorino, Chris A. Liacoura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. Nel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ne-Marie Dixon. The abdom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ediatic Radiograph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vid E Wesson, M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. UpTo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alibri"/>
                <a:ea typeface="Calibri"/>
              </a:rPr>
              <a:t>THANK YOU !!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nical assess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nostic te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OVERVIE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rschspung disease (HD): congenital aganglionic megacol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y: failure of migration of ganglion cells along the gastrointestinal tract during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roug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eks of embryonic developm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tic abnormality: del 10 (q11.21,q21.2), trisomy 18,2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/5000 children, male/female: 4/1 – 1/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: enterocolitis, sepsis, intestinal perfor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2971800" y="10666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pected Hirschspr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traight Connector 5"/>
          <p:cNvSpPr/>
          <p:nvPr/>
        </p:nvSpPr>
        <p:spPr>
          <a:xfrm>
            <a:off x="2209680" y="2057400"/>
            <a:ext cx="4267440" cy="1440"/>
          </a:xfrm>
          <a:prstGeom prst="line">
            <a:avLst/>
          </a:prstGeom>
          <a:ln w="255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Elbow Connector 20"/>
          <p:cNvCxnSpPr>
            <a:stCxn id="358" idx="2"/>
          </p:cNvCxnSpPr>
          <p:nvPr/>
        </p:nvCxnSpPr>
        <p:spPr>
          <a:xfrm flipH="1" rot="16200000">
            <a:off x="4323240" y="1885680"/>
            <a:ext cx="305640" cy="38520"/>
          </a:xfrm>
          <a:prstGeom prst="bentConnector3">
            <a:avLst>
              <a:gd name="adj1" fmla="val 96108"/>
            </a:avLst>
          </a:prstGeom>
          <a:ln w="25560">
            <a:solidFill>
              <a:srgbClr val="ff6903"/>
            </a:solidFill>
            <a:miter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2208960" y="2057040"/>
            <a:ext cx="252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2" name="Straight Arrow Connector 25"/>
          <p:cNvCxnSpPr/>
          <p:nvPr/>
        </p:nvCxnSpPr>
        <p:spPr>
          <a:xfrm flipH="1">
            <a:off x="6476760" y="2057040"/>
            <a:ext cx="216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3" name="Rounded Rectangle 26"/>
          <p:cNvSpPr/>
          <p:nvPr/>
        </p:nvSpPr>
        <p:spPr>
          <a:xfrm>
            <a:off x="9907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ounded Rectangle 27"/>
          <p:cNvSpPr/>
          <p:nvPr/>
        </p:nvSpPr>
        <p:spPr>
          <a:xfrm>
            <a:off x="51055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5" name="Straight Arrow Connector 28"/>
          <p:cNvCxnSpPr/>
          <p:nvPr/>
        </p:nvCxnSpPr>
        <p:spPr>
          <a:xfrm flipH="1">
            <a:off x="2208960" y="28954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6" name="Rounded Rectangle 30"/>
          <p:cNvSpPr/>
          <p:nvPr/>
        </p:nvSpPr>
        <p:spPr>
          <a:xfrm>
            <a:off x="304920" y="3352680"/>
            <a:ext cx="4419360" cy="1143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terocolitis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ymp: fever, vomiting, diarrhea, abdominal distensi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tool exam: RBC, WB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lain xra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32"/>
          <p:cNvCxnSpPr/>
          <p:nvPr/>
        </p:nvCxnSpPr>
        <p:spPr>
          <a:xfrm flipH="1">
            <a:off x="1294560" y="4495680"/>
            <a:ext cx="83916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8" name="Straight Arrow Connector 34"/>
          <p:cNvCxnSpPr/>
          <p:nvPr/>
        </p:nvCxnSpPr>
        <p:spPr>
          <a:xfrm>
            <a:off x="2133720" y="4495680"/>
            <a:ext cx="83880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9" name="TextBox 36"/>
          <p:cNvSpPr/>
          <p:nvPr/>
        </p:nvSpPr>
        <p:spPr>
          <a:xfrm>
            <a:off x="1219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37"/>
          <p:cNvSpPr/>
          <p:nvPr/>
        </p:nvSpPr>
        <p:spPr>
          <a:xfrm>
            <a:off x="25909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Rounded Rectangle 38"/>
          <p:cNvSpPr/>
          <p:nvPr/>
        </p:nvSpPr>
        <p:spPr>
          <a:xfrm>
            <a:off x="304920" y="5029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Rounded Rectangle 39"/>
          <p:cNvSpPr/>
          <p:nvPr/>
        </p:nvSpPr>
        <p:spPr>
          <a:xfrm>
            <a:off x="2286000" y="502920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ast 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3" name="Straight Arrow Connector 41"/>
          <p:cNvCxnSpPr>
            <a:stCxn id="371" idx="3"/>
            <a:endCxn id="372" idx="1"/>
          </p:cNvCxnSpPr>
          <p:nvPr/>
        </p:nvCxnSpPr>
        <p:spPr>
          <a:xfrm>
            <a:off x="1905120" y="5257800"/>
            <a:ext cx="381600" cy="21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4" name="Straight Arrow Connector 42"/>
          <p:cNvCxnSpPr>
            <a:stCxn id="364" idx="2"/>
            <a:endCxn id="375" idx="0"/>
          </p:cNvCxnSpPr>
          <p:nvPr/>
        </p:nvCxnSpPr>
        <p:spPr>
          <a:xfrm flipH="1">
            <a:off x="6474600" y="2897280"/>
            <a:ext cx="3960" cy="9151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5" name="Rounded Rectangle 43"/>
          <p:cNvSpPr/>
          <p:nvPr/>
        </p:nvSpPr>
        <p:spPr>
          <a:xfrm>
            <a:off x="5105520" y="3809880"/>
            <a:ext cx="2743200" cy="6098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in abdominal radio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6" name="Shape 49"/>
          <p:cNvCxnSpPr>
            <a:stCxn id="375" idx="2"/>
          </p:cNvCxnSpPr>
          <p:nvPr/>
        </p:nvCxnSpPr>
        <p:spPr>
          <a:xfrm rot="5400000">
            <a:off x="5028480" y="3810240"/>
            <a:ext cx="838800" cy="2057760"/>
          </a:xfrm>
          <a:prstGeom prst="bentConnector2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7" name="Straight Arrow Connector 50"/>
          <p:cNvCxnSpPr/>
          <p:nvPr/>
        </p:nvCxnSpPr>
        <p:spPr>
          <a:xfrm flipH="1">
            <a:off x="3123360" y="54100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8" name="Rounded Rectangle 51"/>
          <p:cNvSpPr/>
          <p:nvPr/>
        </p:nvSpPr>
        <p:spPr>
          <a:xfrm>
            <a:off x="2514600" y="58672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sult surg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46483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too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wer rect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ipation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passage of meconium (&gt;= 48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dominal dis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ight anal canal and rectal vault, “squirt sig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longed constipation and none of thes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itial diagnostic 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op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onfirm the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SIG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ransition zon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normal, irregular contractions of aganglionic segment –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ctal sigmoid ind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ckening and nodularity of colonic mucosa proximal to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evacuation of bari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xed barium-stool pattern on delayed radiograp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ended bowel loops on plain radiographs that almost fill after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stion mark–shaped colon in total colonic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38616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072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ition zon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5" descr="Hirschsprung disease. Lateral view from a barium e"/>
          <p:cNvPicPr/>
          <p:nvPr/>
        </p:nvPicPr>
        <p:blipFill>
          <a:blip r:embed="rId2"/>
          <a:stretch/>
        </p:blipFill>
        <p:spPr>
          <a:xfrm>
            <a:off x="4724280" y="1219320"/>
            <a:ext cx="3988080" cy="32097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800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tal sigmoid inde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6:02:29Z</dcterms:created>
  <dc:creator>Win7</dc:creator>
  <dc:description/>
  <dc:language>en-US</dc:language>
  <cp:lastModifiedBy>AVENIS</cp:lastModifiedBy>
  <dcterms:modified xsi:type="dcterms:W3CDTF">2014-01-21T00:24:22Z</dcterms:modified>
  <cp:revision>68</cp:revision>
  <dc:subject/>
  <dc:title>ASSESSMENT FOR HIRSCHSPRUNG DISEASE AT</dc:title>
</cp:coreProperties>
</file>